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6.wmf" ContentType="image/x-wmf"/>
  <Override PartName="/ppt/media/image29.wmf" ContentType="image/x-wmf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9.wmf" ContentType="image/x-wmf"/>
  <Override PartName="/ppt/media/image11.jpeg" ContentType="image/jpeg"/>
  <Override PartName="/ppt/media/image12.wmf" ContentType="image/x-wmf"/>
  <Override PartName="/ppt/media/image31.jpeg" ContentType="image/jpeg"/>
  <Override PartName="/ppt/media/image37.wmf" ContentType="image/x-wmf"/>
  <Override PartName="/ppt/media/image34.wmf" ContentType="image/x-wmf"/>
  <Override PartName="/ppt/media/image4.wmf" ContentType="image/x-wmf"/>
  <Override PartName="/ppt/media/image13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6.wmf" ContentType="image/x-wmf"/>
  <Override PartName="/ppt/media/image15.wmf" ContentType="image/x-wm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2AE-F84B-4EC7-9515-57C5362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A73-9C8E-48DF-ACCA-308D967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AF1-3AA1-4E6C-95E3-BB26F427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ED3-0BA4-41A2-9D09-61F56B25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73D8-07E5-4405-A6D8-32812B95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CC5-0A4D-43A3-B251-4CBCD033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6B42-2FD4-4395-A511-3EB30621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22D-655B-4539-AECF-91075F1B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D15-890C-4E4C-A6BE-70D1200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1900-3064-4B10-A472-42FBACD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24E6-7198-4A84-AEE7-9C38A52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4A3-10B0-4B23-8332-1956B42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CBD-928D-41E9-82C3-FEC9033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A0D-BABD-479F-A202-6322954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66AF-04C3-4086-A5BA-A6A6207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AE2-9CDF-478D-BACE-37FE0F8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E0E-27EF-410C-BE13-C7AC0E60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AE4-7050-4671-96EB-398A2376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47A-3B9B-4973-8399-1F692CB3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4B8-EA44-43F4-A598-4CB0360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B01-3AE3-4A22-8AF9-8F31C290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53A-FE37-4225-BFCB-4E58AB7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39A-9725-493D-9799-C97F663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049-182A-48C3-A0F6-47A7ED6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474-2D26-4344-A388-5318094E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92D3-C49D-472D-8CD9-F46311A677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s a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Dimensional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ly Adding Vector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drawing the vectors “tip-to-tai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s drawn from the origin of    to the end of the last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the length of    and its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scale factor to convert length to actual magn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2895480" y="3657600"/>
          <a:ext cx="371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5760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6"/>
          <p:cNvGraphicFramePr/>
          <p:nvPr/>
        </p:nvGraphicFramePr>
        <p:xfrm>
          <a:off x="1981080" y="5072040"/>
          <a:ext cx="3715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07204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4724280" y="2268360"/>
            <a:ext cx="44197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ly Adding Vector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have many vectors, just keep repeating the process until all are in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s still drawn from the origin of the first vector to the end of the last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4727520" y="1981080"/>
            <a:ext cx="44164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Vector Add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obe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utative Law of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 in which the vectors are added doesn’t affect the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Object 8"/>
          <p:cNvGraphicFramePr/>
          <p:nvPr/>
        </p:nvGraphicFramePr>
        <p:xfrm>
          <a:off x="1905120" y="4800600"/>
          <a:ext cx="2666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800600"/>
                    <a:ext cx="266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562720" y="182880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5423040" y="4114800"/>
            <a:ext cx="36446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Subt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case of vector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the negative of the subtracted v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 with standard vector addition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9"/>
          <p:cNvGraphicFramePr/>
          <p:nvPr/>
        </p:nvGraphicFramePr>
        <p:xfrm>
          <a:off x="1600200" y="3886200"/>
          <a:ext cx="25448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86200"/>
                    <a:ext cx="25448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4724280" y="2070000"/>
            <a:ext cx="43434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ying or Dividing a Vector by a Scal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 of the multiplication or division is a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gnitude of the vector is multiplied or divided by the sca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scalar is positive, the direction of the result is the same as of the original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scalar is negative, the direction of the result is opposite that of the original v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5: Holy Cow, its Friday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hot an arrow into the air. It landed I know not whe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shot it straight up with a velocity of 88km/hr. How long was it in the air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onents of a V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useful to us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tangular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are the projections of the vector along the x- and y-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onents of a Vector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x-component of a vector is the projection along the x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y-component of a vector is the projection along the y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565280" y="3048120"/>
          <a:ext cx="26622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3048120"/>
                    <a:ext cx="2662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1676520" y="4648320"/>
          <a:ext cx="245412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24541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819520" y="5181480"/>
          <a:ext cx="240984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181480"/>
                    <a:ext cx="240984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mponents of a V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vious equations are vali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nly if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θ is measured with respect to the x-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omponents can be positive or negative and will have the same units as the original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mponent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omponents are the legs of the right triangle whose hypotenuse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ay still have to find θ with respect to the positive x-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will be correct only if the angle lies in the first or fourth quad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second or third quadrant, add 18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1981080" y="2895480"/>
          <a:ext cx="56865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56865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7924680" y="2362320"/>
          <a:ext cx="3715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2362320"/>
                    <a:ext cx="371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4 – G’day ma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ruck pulls two tandem trailers at 100 km/hr. It takes 0.6s to pass on to a bridge 400m long, so that the entire rig is on the bridge. How long will all or part of the rig be on the bridge. (from inter-coastal bridge handbook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 Algebraicall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a coordinate system and sketch th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the x- and y-components of all th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ll the x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2362320" y="5257800"/>
          <a:ext cx="12952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257800"/>
                    <a:ext cx="12952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 Algebraicall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all the y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give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Pythagorean Theorem to find the magnitude of the resulta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inverse tangent function to find the direction of 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648320" y="2590920"/>
                <a:ext cx="1617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809880" y="4038480"/>
                <a:ext cx="2352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2286000" y="5662440"/>
                <a:ext cx="21574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Two Dimen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+ or – signs is not always sufficient to fully describe motion in more than one 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s can be used to more fully describ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ll interested in displacement, velocity, and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an object is described by its position vect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object is defined as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ange in its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Object 8"/>
          <p:cNvGraphicFramePr/>
          <p:nvPr/>
        </p:nvGraphicFramePr>
        <p:xfrm>
          <a:off x="1981080" y="3240000"/>
          <a:ext cx="2523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40000"/>
                    <a:ext cx="252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1219320" y="5526000"/>
          <a:ext cx="1752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526000"/>
                    <a:ext cx="1752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11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48765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velocity is the ratio of the displacement to the time interval for the dis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velocity is the limit of the average velocity a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Δt approache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ion of the instantaneous velocity is along a line that is tangent to the path of the particle and in the direction of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766880" y="3187800"/>
          <a:ext cx="158580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3187800"/>
                    <a:ext cx="15858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verage acceleration is defined as the rate at which the velocity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stantaneous acceleration is the limit of the average acceleration a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Δt approaches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998720" y="3338640"/>
          <a:ext cx="181116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3338640"/>
                    <a:ext cx="18111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 Summary (SI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velocity and instantaneous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acceleration and instantaneous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ys an Object Might Accele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velocity (the speed)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rection of the velocity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though the magnitude i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the magnitude and the direction can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ay move in both the x and y directions simultaneous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moves in two dim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m of two dimensional motion we will deal with is calle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ssumption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may ignore air fri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may ignore the rotation of the ea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se assumptions, an object in projectile motion will follow a parabolic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long is entire rig…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any rigs fit on bridge…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ule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 and y-directions of motion are completely independent of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direction is uniform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y-direction is fre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can be broken down into its x- and y-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1981080" y="5486400"/>
          <a:ext cx="449604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86400"/>
                    <a:ext cx="4496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1143000" y="1839960"/>
            <a:ext cx="73915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jectile Motion at Various Initial Ang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mentary values of the initial angle result in the same 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s will be diffe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ximum range occurs at a projection angle of 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50166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Details About the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-direc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x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only operative equation in the x-direction since there is uniform velocity in that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981080" y="3124080"/>
                <a:ext cx="5724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Details About the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-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fall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-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positive direction as up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formly accelerated motion, so the motion equations all 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981080" y="2590920"/>
                <a:ext cx="2595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of the Projecti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velocity of the projectile at any point of its motion is the vector sum of its x and y components at that poi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o be careful about the angle’s quad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905120" y="3809880"/>
          <a:ext cx="552600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09880"/>
                    <a:ext cx="55260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 coordinate system and sketch the path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itial and final positions, velocities, and accel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initial velocity into x- and y-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e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horizontal and vertical motions independen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techniques for solving problems with constant velocity to analyze the horizontal motion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techniques for solving problems with constant acceleration to analyze the vertical motion of the projec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Variations of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ject may be fired horizon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itial velocity is all in the x-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general rules of projectile motion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5145120" y="2097000"/>
          <a:ext cx="380988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97000"/>
                    <a:ext cx="38098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-Symmetrical Projectil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general rules for projectil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the y-direction into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and 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metrical back to initial height and then the rest of the h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287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vs. Scalar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hysical quantities encountered in this text will be either a scalar or a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quantity has both magnitude (size) and di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al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completely specified by only a magnitude (siz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d day 5 –start day 6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rrow leaves the bow at 25m/s at an angle to the horizontal of 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How long will it be in the air , how high will it rise and how far will it travel down rang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ve velocity is about relating the measurements of two different ob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may be useful to use a moving frame of reference instead of a stationary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to specify the frame of reference, since the motion may be different in different frames of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no specific equations to learn to solve relative velocity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ttern of subscripts can be useful in solving relative velocity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 the following not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is an observer, stationary with respect to the 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and B are two moving c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Position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A as measured by 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B as measured by 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position of car A as measured by car 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523880" y="2057400"/>
          <a:ext cx="609840" cy="57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098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1616040" y="4191120"/>
          <a:ext cx="57780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6040" y="4191120"/>
                    <a:ext cx="57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1616040" y="3124080"/>
          <a:ext cx="57780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6040" y="3124080"/>
                    <a:ext cx="57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7"/>
          <p:cNvGraphicFramePr/>
          <p:nvPr/>
        </p:nvGraphicFramePr>
        <p:xfrm>
          <a:off x="1676520" y="5281560"/>
          <a:ext cx="2438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281560"/>
                    <a:ext cx="2438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ition of car A relative to car B is given by the vector subtraction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3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ve Velocity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of change of the displacements gives the relationship for the veloc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2514600" y="3581280"/>
          <a:ext cx="3200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581280"/>
                    <a:ext cx="3200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: Relative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 the objects with a descriptive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o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hrases such as “velocity of A relative to B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velocity variables with appropriate no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something not explicitly noted as being relative to something else, it is probably relative to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: Relative Veloc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ak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velocities and put them into an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the subscripts in an order analogous to the standard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the unknow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3,7,11,13,18,22,24,27,29,33,35,36,41,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ction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 of day 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handwritten, use an arro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printed, will be in bold print with an arrow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aling with just the magnitude of a vector in print, an italic letter will be used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8553600" y="2057400"/>
          <a:ext cx="3888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3600" y="20574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4648320" y="3048120"/>
          <a:ext cx="433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048120"/>
                    <a:ext cx="433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perties of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ality of Two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vector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q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y have the same magnitude and the sam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ement of vectors in a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vector can be moved parallel to itself without being aff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Properties of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V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vector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y have the same magnitude but are 180° apart (opposite dir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ant Ve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ector is the sum of a given set of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81080" y="3657600"/>
          <a:ext cx="401508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015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5"/>
          <p:cNvGraphicFramePr/>
          <p:nvPr/>
        </p:nvGraphicFramePr>
        <p:xfrm>
          <a:off x="2057400" y="5562720"/>
          <a:ext cx="197316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562720"/>
                    <a:ext cx="1973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ng V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dding vectors, their directions must be taken into ac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must be the s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ic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cale draw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ebraic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conven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dding Vectors Geometrically (Triangle or Polygon Method)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 sca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first vector with the appropriate length and in the direction specified, with respect to a coordinat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next vector with the appropriate length and in the direction specified, with respect to a coordinate system whose origin is the end of vector    and parallel to the coordinate system used f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2743200" y="5562720"/>
          <a:ext cx="4334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62720"/>
                    <a:ext cx="433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5"/>
          <p:cNvGraphicFramePr/>
          <p:nvPr/>
        </p:nvGraphicFramePr>
        <p:xfrm>
          <a:off x="4648320" y="5943600"/>
          <a:ext cx="4334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5943600"/>
                    <a:ext cx="433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22:34:38Z</dcterms:created>
  <dc:creator>Marilyn Akins</dc:creator>
  <dc:description/>
  <dc:language>en-US</dc:language>
  <cp:lastModifiedBy>gandella</cp:lastModifiedBy>
  <dcterms:modified xsi:type="dcterms:W3CDTF">2009-08-28T13:50:23Z</dcterms:modified>
  <cp:revision>36</cp:revision>
  <dc:subject/>
  <dc:title>Chapter 3</dc:title>
</cp:coreProperties>
</file>